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6F5F-145D-47B5-82DC-32BC02AC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20AA-E13A-42CE-8DC0-5E66257A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49F0-CDE3-4ED6-92CA-C2BD268C7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C7C8-9243-44D0-9771-A814D7415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4B9B-6BF0-48B7-98EC-C9B0FDD1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79D6-03A5-4680-BA9B-F7FA78EA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35F3-E374-4B7C-A558-2DC5576D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0C50-7612-4CD3-AB24-297B19F4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8E49-C844-41A1-9AA8-E77BD821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9B56-0827-4C84-9F91-0DBAB3BE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679E-C025-4991-93E6-6388DA40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C7F5-D755-42DC-8DAB-3C588546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B282-4040-4DF0-87F3-543189F88185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6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apture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944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16000" y="192240"/>
            <a:ext cx="7834320" cy="1292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Object 6"/>
          <p:cNvGraphicFramePr/>
          <p:nvPr/>
        </p:nvGraphicFramePr>
        <p:xfrm>
          <a:off x="539640" y="247680"/>
          <a:ext cx="1069920" cy="109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247680"/>
                    <a:ext cx="106992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Picture 8" descr=""/>
          <p:cNvPicPr/>
          <p:nvPr/>
        </p:nvPicPr>
        <p:blipFill>
          <a:blip r:embed="rId5"/>
          <a:stretch/>
        </p:blipFill>
        <p:spPr>
          <a:xfrm>
            <a:off x="2340000" y="961920"/>
            <a:ext cx="5413320" cy="19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0"/>
          <p:cNvSpPr/>
          <p:nvPr/>
        </p:nvSpPr>
        <p:spPr>
          <a:xfrm>
            <a:off x="108000" y="16286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Lecture </a:t>
            </a:r>
            <a:r>
              <a:rPr b="1" lang="bg-BG" sz="1800" spc="-1" strike="noStrike">
                <a:solidFill>
                  <a:srgbClr val="000000"/>
                </a:solidFill>
                <a:latin typeface="Arial Black"/>
              </a:rPr>
              <a:t>№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1" lang="bg-BG" sz="18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"/>
          <p:cNvPicPr/>
          <p:nvPr/>
        </p:nvPicPr>
        <p:blipFill>
          <a:blip r:embed="rId6"/>
          <a:stretch/>
        </p:blipFill>
        <p:spPr>
          <a:xfrm>
            <a:off x="5424480" y="6319800"/>
            <a:ext cx="37195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8T20:06:21Z</dcterms:created>
  <dc:creator>Tzanev-Home</dc:creator>
  <dc:description/>
  <dc:language>en-US</dc:language>
  <cp:lastModifiedBy>Tzanev-Home</cp:lastModifiedBy>
  <dcterms:modified xsi:type="dcterms:W3CDTF">2015-11-08T20:16:20Z</dcterms:modified>
  <cp:revision>3</cp:revision>
  <dc:subject/>
  <dc:title>Slide 1</dc:title>
</cp:coreProperties>
</file>