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bg-BG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D4B736-E450-4E4D-8C90-025441AF0690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17E44E-D1B2-4218-AE78-737604129A9D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4CC-E088-41C1-8CE8-DAAF11E0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63D6-2D55-4656-86D9-51DC34CC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F0A3-8758-4B76-A4CF-ACC3FE92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F28-2CCE-48A1-8050-BB741CAD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5F0A-A9F1-4879-B271-23176F7F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CA40-8674-4DAA-8333-8CA58033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889F-F56A-4B41-846F-CAE0D3AF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6C67-DA9A-41EC-A796-19890C8E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F395-1E31-422D-99B0-40A7A1B5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BB0F-ACA2-4798-A1CF-B2E89258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51A7-66F9-4CE8-91CF-3E229A68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7970-69CF-41E3-8E9F-CBC5A2BD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1721-3FF2-4E6C-BBDC-9143FFF6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7E86-A818-406E-B700-00C1674F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4402-9479-41C9-A7DB-BAA3F0DD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FDC1-5DAD-4E38-8333-95B8FA72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D937-AC2A-4BC1-910F-0B00F0FC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9B27C-11FC-46A4-A905-2CBAF0E1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D5F85-4EA1-4AFF-9201-807A0B35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57845-EBD6-4A39-B85F-90BD9D76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4368E-15D8-48A3-A688-35CECF94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827F5-6B71-4C30-9D2E-8976BFEA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71D0-E14A-4DF0-A445-A7B91DD5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6A4DE-49E9-42AA-9880-3D565DC5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7DBCE-1844-4D9C-9304-D60ED03A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C1A45-2FF7-4BD3-A320-E3DE4A2F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DC83C-DFE5-45B6-A099-D2DABC47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F9E95-3975-4086-8DF1-A7969C50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9ECC8-F375-4386-A365-103B6757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C85E6-5F21-43ED-A440-0913094D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4089-C297-45C0-86BF-C147381D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787C-DD4C-4025-84C7-490C4AA0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9D68-B1B9-4473-A474-C63314F7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883D-AA4C-4B6A-84DC-8244316A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64EC-E7C6-4B08-8924-8C7C3E67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366-F86A-42D5-90BA-05561670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C761-3094-40ED-9F1D-CFB62121E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300F-A870-4324-A29E-A795AA0C8754}" type="slidenum">
              <a:rPr b="0" lang="bg-BG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BEE8-2931-43EC-A771-F209C93FD6CD}" type="slidenum">
              <a:rPr b="0" lang="bg-BG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5"/>
          <p:cNvSpPr/>
          <p:nvPr/>
        </p:nvSpPr>
        <p:spPr>
          <a:xfrm>
            <a:off x="1994040" y="1041480"/>
            <a:ext cx="5086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Object 6"/>
          <p:cNvGraphicFramePr/>
          <p:nvPr/>
        </p:nvGraphicFramePr>
        <p:xfrm>
          <a:off x="512640" y="372960"/>
          <a:ext cx="86040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40" y="372960"/>
                    <a:ext cx="8604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7"/>
          <p:cNvSpPr/>
          <p:nvPr/>
        </p:nvSpPr>
        <p:spPr>
          <a:xfrm>
            <a:off x="712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12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316800"/>
            <a:ext cx="914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CAL UNIVERSITY – PLEV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ACULTY OF MEDICIN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VISION OF PHYSICS AND BIOPHYSICS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64960" y="161604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Lecture</a:t>
            </a:r>
            <a:r>
              <a:rPr b="0" lang="bg-BG" sz="1800" spc="-1" strike="noStrike">
                <a:solidFill>
                  <a:srgbClr val="000099"/>
                </a:solidFill>
                <a:latin typeface="Arial Black"/>
              </a:rPr>
              <a:t> №10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650880" y="2608200"/>
            <a:ext cx="839484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ANSPORT OF MATTER ACROSS CELL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942840" y="4111560"/>
            <a:ext cx="736308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MEMBRANES - CLASSIFIC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316480" y="613584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Prof. M. Alexandrova, DSc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12:58:53Z</dcterms:created>
  <dc:creator>Canev</dc:creator>
  <dc:description/>
  <dc:language>en-US</dc:language>
  <cp:lastModifiedBy>Tzanev-MU</cp:lastModifiedBy>
  <dcterms:modified xsi:type="dcterms:W3CDTF">2015-11-16T07:54:50Z</dcterms:modified>
  <cp:revision>464</cp:revision>
  <dc:subject/>
  <dc:title>Slide 1</dc:title>
</cp:coreProperties>
</file>