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189-6AEF-4420-B74A-DDE7462A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20C-0079-468C-A97F-5AAF7FB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5F9-E81B-483B-8DE0-AF631F1F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1C6-E71C-4A6A-8929-E4012305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57A0-04F0-4F2A-A875-8BED8A29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6FE2-2D10-4990-9074-C314098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1618-5944-4A4B-BFF0-34C36807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F713-E0E4-419F-8792-1B47C62C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44D7-44A9-4966-A9A1-7CDE2F05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44A7-8CD4-498F-BE1B-04694B3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1135-357A-4A3A-A31B-B22880E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C78-CC90-48DE-BB84-38527643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D1E2-C223-4FCB-99FB-A217420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85C0-065E-4876-ACEA-59458AFB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67C9-9461-4FC0-9F38-9F0A7319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C5FE-C73B-4DBA-8717-0228E56F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62F4-6B4C-445C-A606-E40C1B66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F8A-55E9-4957-8DAB-C0493DF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992-DF90-49E5-8059-6E21024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D55-16D6-49BD-97EB-E00E2487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3A6-8D00-4611-BE66-EE213B92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341-2E69-4604-ABA4-B53635D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F3D-D246-4F53-8963-8B67F17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BF8-78A6-4C4A-8C47-D06EDD5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FB9F-A0A1-4F16-ACE3-B8D7C05340BE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A3E-DDF2-4ED0-B090-04D1E11A559E}" type="slidenum">
              <a:rPr b="0" lang="bg-BG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5"/>
          <p:cNvGraphicFramePr/>
          <p:nvPr/>
        </p:nvGraphicFramePr>
        <p:xfrm>
          <a:off x="179280" y="404640"/>
          <a:ext cx="1071720" cy="10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1071720" cy="10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6"/>
          <p:cNvSpPr/>
          <p:nvPr/>
        </p:nvSpPr>
        <p:spPr>
          <a:xfrm>
            <a:off x="324000" y="404640"/>
            <a:ext cx="7812000" cy="11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MEDICAL UNIVERSITY - PLEVEN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FACULTY OF MEDICIN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0f0d"/>
                </a:solidFill>
                <a:latin typeface="Verdana"/>
              </a:rPr>
              <a:t>DEVISION OF PHYSICS AND BIOPHYS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1547640" y="1160640"/>
            <a:ext cx="540072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3" descr="Capture"/>
          <p:cNvPicPr/>
          <p:nvPr/>
        </p:nvPicPr>
        <p:blipFill>
          <a:blip r:embed="rId3"/>
          <a:stretch/>
        </p:blipFill>
        <p:spPr>
          <a:xfrm>
            <a:off x="0" y="2403360"/>
            <a:ext cx="7848720" cy="3294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5"/>
          <p:cNvSpPr/>
          <p:nvPr/>
        </p:nvSpPr>
        <p:spPr>
          <a:xfrm>
            <a:off x="250920" y="188136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2f1311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176720" y="60498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Prof. M. Alexsandrova, DSc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9:09:48Z</dcterms:created>
  <dc:creator>Tzanev-Home</dc:creator>
  <dc:description/>
  <dc:language>en-US</dc:language>
  <cp:lastModifiedBy>Tzanev-Home</cp:lastModifiedBy>
  <dcterms:modified xsi:type="dcterms:W3CDTF">2015-11-08T19:54:12Z</dcterms:modified>
  <cp:revision>6</cp:revision>
  <dc:subject/>
  <dc:title>Slide 1</dc:title>
</cp:coreProperties>
</file>