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dt" idx="10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812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ftr" idx="11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 type="sldNum" idx="12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bg-BG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2E55814-866E-40EA-B4B1-79557C22A009}" type="slidenum">
              <a:rPr b="0" lang="bg-BG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17FAAB5-77CF-480B-B4BF-B7CB6AC73C13}" type="slidenum">
              <a:rPr b="0" lang="bg-BG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g-BG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B848E-B60D-41CA-AE03-55BEBD6D5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30C20-AF1C-4120-B5AE-48CD19C9B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E7B4F-3F6F-437E-A815-9BE580AF4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DBF8D-9EA2-4D49-B583-4D8AA383B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A28D9-0E83-47AB-8D3E-8FEEB088C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AE1D8-7E1E-44BF-8212-2AE7D480A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1EF1D-C2C2-4C5F-A085-D47DC19A7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D263B-F74D-46CF-B74B-8C98B2604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CC234-C694-456F-8B09-8C58270FB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90BA1-2EE5-41EC-A2D2-263B86115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9B8A0-9376-4795-8713-32B10C985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D6B83-E5F8-4C3E-9742-ED70A013D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B1FF6-1875-4135-B9AF-3A823C65D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AD197-4FC1-43CF-9134-2D8A5ADC1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1975B-E007-48D5-9864-78577F93E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7D434-7818-4F1B-902E-F7E859A88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79B0A-85C9-4614-B2D4-E43AFF4D8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6814DC-4E72-4B62-9BF6-6D5DE3998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4D399D-7930-4627-8C7F-39EF0F5CB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A64B0F-F4F5-4A79-A768-75BA376CD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AF3026-79A4-4F42-AD36-FFA27746B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C956C5-15B2-47BD-9D2A-D20837E4F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12162-3D47-45BA-837C-E4D1885F5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C589B4-5181-4283-A7AE-39307DEDD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183ADB-9778-46A3-AD66-6CA3E15C5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1762D4-CB17-4E69-8BB7-5775604D3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9E45B4-2EC6-4333-B43D-53FA1DA6F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15273D-3B75-4B9A-ADE7-7AF66EDB2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FB80A2-B489-45DB-AC11-F56C3020F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A5BD6C-AB53-4123-9387-0C4F765A2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037D8-C717-44DD-AE4B-0F3353E27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F89B7-8B3E-4D28-8F74-55116005F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96BA9-72C2-4AE7-968F-1486962C4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25BBB-A696-467C-A94A-C2944405E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472F1-061F-4C3D-A66D-0CC26F7A3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39AB2-E355-46B5-88F5-613F35DFD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74D57-7977-4A3F-95CB-4051087E27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EF9F5-DE8E-45FA-8529-1984D6CAA60A}" type="slidenum">
              <a:rPr b="0" lang="bg-BG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3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490E0-20E9-40A7-B999-59EC652EBE5D}" type="slidenum">
              <a:rPr b="0" lang="bg-BG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Line 5"/>
          <p:cNvSpPr/>
          <p:nvPr/>
        </p:nvSpPr>
        <p:spPr>
          <a:xfrm>
            <a:off x="2581200" y="901800"/>
            <a:ext cx="481320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33" name="Object 6"/>
          <p:cNvGraphicFramePr/>
          <p:nvPr/>
        </p:nvGraphicFramePr>
        <p:xfrm>
          <a:off x="527040" y="351000"/>
          <a:ext cx="862200" cy="88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7040" y="351000"/>
                    <a:ext cx="862200" cy="88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Rectangle 7"/>
          <p:cNvSpPr/>
          <p:nvPr/>
        </p:nvSpPr>
        <p:spPr>
          <a:xfrm>
            <a:off x="71280" y="2833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6" name="Rectangle 8"/>
          <p:cNvSpPr/>
          <p:nvPr/>
        </p:nvSpPr>
        <p:spPr>
          <a:xfrm>
            <a:off x="71280" y="2833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Rectangle 9"/>
          <p:cNvSpPr/>
          <p:nvPr/>
        </p:nvSpPr>
        <p:spPr>
          <a:xfrm>
            <a:off x="0" y="156960"/>
            <a:ext cx="9144000" cy="13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bg-BG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МЕДИЦИНСКИ УНИВЕРСИТЕТ </a:t>
            </a:r>
            <a:r>
              <a:rPr b="1" lang="bg-BG" sz="2400" spc="-1" strike="noStrike">
                <a:solidFill>
                  <a:srgbClr val="333399"/>
                </a:solidFill>
                <a:latin typeface="Arial Black"/>
                <a:ea typeface="Times New Roman"/>
              </a:rPr>
              <a:t>–</a:t>
            </a:r>
            <a:r>
              <a:rPr b="1" lang="bg-BG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ПЛЕВЕН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	</a:t>
            </a:r>
            <a:r>
              <a:rPr b="1" lang="bg-BG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ФАКУЛТЕТ „ОБЩЕСТВЕНО ЗДРАВЕ“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bg-BG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ЦЕНТЪР ЗА ДИСТАНЦИОННО ОБУЧЕНИЕ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8" name="Text Box 4"/>
          <p:cNvSpPr/>
          <p:nvPr/>
        </p:nvSpPr>
        <p:spPr>
          <a:xfrm>
            <a:off x="264960" y="1616040"/>
            <a:ext cx="196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262673"/>
                </a:solidFill>
                <a:latin typeface="Arial Black"/>
              </a:rPr>
              <a:t>Лекция №1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WordArt 5"/>
          <p:cNvSpPr txBox="1"/>
          <p:nvPr/>
        </p:nvSpPr>
        <p:spPr>
          <a:xfrm>
            <a:off x="433440" y="2540160"/>
            <a:ext cx="8394480" cy="695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НФОРМАЦИОННИ ТЕХНОЛОГИИ В МЕДИЦИНАТА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0" name="WordArt 6"/>
          <p:cNvSpPr txBox="1"/>
          <p:nvPr/>
        </p:nvSpPr>
        <p:spPr>
          <a:xfrm>
            <a:off x="1082520" y="3728880"/>
            <a:ext cx="7363080" cy="1663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Impact"/>
              </a:rPr>
              <a:t>средства за обработка на информация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Impact"/>
              <a:ea typeface="Impact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4716360" y="6058080"/>
            <a:ext cx="409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262673"/>
                </a:solidFill>
                <a:latin typeface="Arial Black"/>
              </a:rPr>
              <a:t>Доц. Инж. Георги Цанев, д.т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8T12:58:53Z</dcterms:created>
  <dc:creator>Canev</dc:creator>
  <dc:description/>
  <dc:language>en-US</dc:language>
  <cp:lastModifiedBy>Georgi_Tzanev</cp:lastModifiedBy>
  <dcterms:modified xsi:type="dcterms:W3CDTF">2017-02-06T07:05:36Z</dcterms:modified>
  <cp:revision>463</cp:revision>
  <dc:subject/>
  <dc:title>Slide 1</dc:title>
</cp:coreProperties>
</file>