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E179C5-9C75-499F-B783-433D5B8D8572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6824B8-9AC7-44CE-8A8F-D1CEBB1E8B50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3BB-23FF-44CE-9A2A-E2AA4D61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8FB-D661-48CD-9A53-45D17FF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026-7E7A-4969-B2AC-7C55659B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E19-F9DA-4438-8577-9A793BE6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0DF5-5BC7-460A-B67C-69DE5033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00B6-3843-4AF6-9822-1DE1317C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DA78-79AF-40C7-80E0-691046D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C801-A57D-4783-A6BD-D4C4D691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E440-A904-4C0A-8ACB-C8917F20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ECB7-F9B2-4821-996F-B9E488E3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2733-F2EB-4762-940B-791EFEFF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C14-4147-46A7-9CE0-9ECFC52D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26ED-B20F-4AE0-9DA9-1E7E2B3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C0A4-7CE1-4C87-A280-1EF685ED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7950-36D7-4D0D-B33B-FA87F14F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233F-205B-40ED-AF51-E6827C4D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B705-272E-4552-9B43-54A7549D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6AA0-F4F3-4E29-A3A5-16125A73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CD81-B99E-433E-A25D-9EDB1AB5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1642-1157-4E45-8231-CB748CDC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5F43-0A83-408C-A17C-B2FF8FD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674E-9DAA-4C71-85C2-3CE3E85E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9B8-464F-48CD-8EE0-7EFB84EC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D80E-4C92-4A49-B869-200490AD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6284-8A69-441E-BBE2-9378B33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D256-A4AB-4357-9938-2FDD6680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34C5-E7BE-4E6D-ADFC-D4894CA5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65B1-56A8-499F-B5BE-6FB3C7B3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F5CF-5A73-479F-AE71-BB4EAAB4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85C3-9276-42AB-A7A0-1412ADD6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BBA-0066-46E7-99ED-E3C6D897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C0A-33ED-4AEA-8614-B5AE369F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9AB-61D2-4F76-A3DD-929E44DE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A3A-C7BD-4C07-A7A6-46AE9663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C42-78E0-4C92-813C-FFBCFFB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539-C71B-4325-8732-C1F22837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249C-1207-4166-8AA1-66210B25A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AD0D-04FB-4AD8-AE05-CC3BF906AF91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A75B-EC6E-4093-B883-F6DDADA377D8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2581200" y="901800"/>
            <a:ext cx="4813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27040" y="351000"/>
          <a:ext cx="86220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51000"/>
                    <a:ext cx="8622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156960"/>
            <a:ext cx="914400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ДИЦИНСКИ УНИВЕРСИТЕТ </a:t>
            </a:r>
            <a:r>
              <a:rPr b="1" lang="bg-BG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–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ЛЕВЕ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ФАКУЛТЕТ „ОБЩЕСТВЕНО ЗДРАВЕ“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НТЪР ЗА ДИСТАНЦИОННО ОБУЧЕН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Лекция №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433440" y="2540160"/>
            <a:ext cx="83944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И ТЕХНОЛОГИИ В МЕДИЦИН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1082520" y="3728880"/>
            <a:ext cx="736308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редства за обработка на информац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16360" y="60580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Доц. Инж. Георги Цанев, д.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Georgi_Tzanev</cp:lastModifiedBy>
  <dcterms:modified xsi:type="dcterms:W3CDTF">2017-02-06T07:05:36Z</dcterms:modified>
  <cp:revision>463</cp:revision>
  <dc:subject/>
  <dc:title>Slide 1</dc:title>
</cp:coreProperties>
</file>