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824-5007-4652-A53B-1C50FC21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316-2AA4-4C3A-A25F-FB2AB34C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12F-7257-41F9-8057-53E6311C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ED6-43B0-47AA-9977-9FB3AC79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BC0E-1C26-48B6-82AD-B1836BAB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A776-2C93-4C2D-BA1F-6B875289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6DA1-A468-410A-B419-5B653BE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2E8-A4E9-4F46-A533-2F677F25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448-DBFF-49D8-8891-E456C3EB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40B-B669-4EA5-BD24-CBE20B71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E10-6BED-4A08-8CC1-6242DD05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3B1-1712-41B3-A0D5-1DA95A5A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E2EF-7E85-4398-9C5C-AB837A8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19A-9490-4F9E-8801-5A498A8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302D-F4B5-4183-817E-A3D2255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B535-E5C2-43C4-99DE-7E2A6E12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5F33-18C4-42C5-9F07-3BE9E3CA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D92-442B-475E-B60D-249A272D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B20-FD03-49F7-B100-5B59B4A9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504-9330-4CC0-A811-FB39D03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6CB-C588-4947-BD56-E0CCEF1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9A5-9DDE-4252-A81D-B9C339F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B47-4E1D-44A5-A216-2FC2A6D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393-18F2-412F-A440-F32D849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EFD8-C878-493E-A581-4BEB220F18D8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AEB-A23A-4604-A897-44B7825BD0BF}" type="slidenum">
              <a:rPr b="0" lang="bg-BG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5"/>
          <p:cNvGraphicFramePr/>
          <p:nvPr/>
        </p:nvGraphicFramePr>
        <p:xfrm>
          <a:off x="179280" y="404640"/>
          <a:ext cx="1071720" cy="10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107172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324000" y="404640"/>
            <a:ext cx="7812000" cy="11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MEDICAL UNIVERSITY - PLEVEN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250f0d"/>
                </a:solidFill>
                <a:latin typeface="Verdana"/>
              </a:rPr>
              <a:t>FACULTY OF MEDICIN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0f0d"/>
                </a:solidFill>
                <a:latin typeface="Verdana"/>
              </a:rPr>
              <a:t>DEVISION OF PHYSICS AND BIOPHYSI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1547640" y="1160640"/>
            <a:ext cx="540072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3" descr="Capture"/>
          <p:cNvPicPr/>
          <p:nvPr/>
        </p:nvPicPr>
        <p:blipFill>
          <a:blip r:embed="rId3"/>
          <a:stretch/>
        </p:blipFill>
        <p:spPr>
          <a:xfrm>
            <a:off x="0" y="2403360"/>
            <a:ext cx="7848720" cy="3294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250920" y="188136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2f1311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176720" y="60498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 Black"/>
              </a:rPr>
              <a:t>Prof. M. Alexsandrova, DSc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9:09:48Z</dcterms:created>
  <dc:creator>Tzanev-Home</dc:creator>
  <dc:description/>
  <dc:language>en-US</dc:language>
  <cp:lastModifiedBy>Tzanev-Home</cp:lastModifiedBy>
  <dcterms:modified xsi:type="dcterms:W3CDTF">2015-11-08T19:54:12Z</dcterms:modified>
  <cp:revision>6</cp:revision>
  <dc:subject/>
  <dc:title>Slide 1</dc:title>
</cp:coreProperties>
</file>