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bg-BG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DE62FDD-0693-41EA-A74B-81E645C2FDCB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9A37067-B01A-4E4D-A38A-49A41D38E738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CEAC-3689-4A0E-B80B-3B654B70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E320-EF2A-42CC-B5C0-C5895034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3D39-5B19-4504-B194-5C6FEB90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CD3F-5A34-49A9-83B4-83E798C2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64BD-858C-4304-9D40-1CFC8827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EA0A-A8A4-4E20-BC05-6B68BCF3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A071-062B-45B3-A6EE-FBC30BF2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342B-2520-41E9-8DBE-79E9C7A4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0B41-D662-4356-B341-D1C9980E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23BC-8414-457C-8A5B-89AFF565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D574-7E2D-4A48-A6B6-BCEB6783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3D7A-E268-47AD-B2E8-E882E165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4101-C6B8-4F54-B86A-50086B21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D657-C913-474A-B3B7-56DAA495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E792-F4D2-49A5-A601-F0171D22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9DBA-7377-4EE1-8734-DE1DD751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0C94-BD76-4943-84E1-B8B00908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7BCBD-A654-4B92-9422-A3A2CDB6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3FB63-DE3C-4D39-82C0-F50D07FD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D7C96-E1E8-4982-A66C-A151A263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3C260-51AF-4C86-BDA9-07784889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10124-F629-4ED2-8147-12729BB9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5D7-7862-4B69-A1E3-E2605D12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08BD7-7F01-4180-A0BA-A6E25347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BD751-AA32-4C43-8E19-27F924FA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BA66C-495B-4C1B-B80D-9E54AE14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6BE7E-CCD7-4EB7-9DC1-2A461A18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08A8B-0D12-4D42-B8A1-31B6ACB2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4200F-FEF5-4426-855F-F6270667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65D95-B6C4-45BF-A8E6-BA8F2103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7AD-120F-4CCC-8FBF-C8E678DE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DAC9-DEE8-4BF1-A0BE-4081C533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9CBA-1332-406F-AC83-150C07B6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CF94-5D7B-45C6-BA9A-584FD4A3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981F-5228-4F45-93AF-2F3C59E2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3AEC-98A1-447F-9FDB-A28D188A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D239-F11F-4D43-A0AC-88FAC5382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C186-7EF8-4121-A3E4-C644F3F15CA4}" type="slidenum">
              <a:rPr b="0" lang="bg-BG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5A25-419B-4B60-BA2E-4FD1FFB38A0E}" type="slidenum">
              <a:rPr b="0" lang="bg-BG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5"/>
          <p:cNvSpPr/>
          <p:nvPr/>
        </p:nvSpPr>
        <p:spPr>
          <a:xfrm>
            <a:off x="1994040" y="1041480"/>
            <a:ext cx="5086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Object 6"/>
          <p:cNvGraphicFramePr/>
          <p:nvPr/>
        </p:nvGraphicFramePr>
        <p:xfrm>
          <a:off x="512640" y="372960"/>
          <a:ext cx="86040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40" y="372960"/>
                    <a:ext cx="8604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7"/>
          <p:cNvSpPr/>
          <p:nvPr/>
        </p:nvSpPr>
        <p:spPr>
          <a:xfrm>
            <a:off x="7128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128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316800"/>
            <a:ext cx="914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CAL UNIVERSITY – PLEV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ACULTY OF MEDICIN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VISION OF PHYSICS AND BIOPHYSICS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64960" y="161604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Lecture</a:t>
            </a:r>
            <a:r>
              <a:rPr b="0" lang="bg-BG" sz="1800" spc="-1" strike="noStrike">
                <a:solidFill>
                  <a:srgbClr val="000099"/>
                </a:solidFill>
                <a:latin typeface="Arial Black"/>
              </a:rPr>
              <a:t> №10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650880" y="2608200"/>
            <a:ext cx="839484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ANSPORT OF MATTER ACROSS CELL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942840" y="4111560"/>
            <a:ext cx="736308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MEMBRANES - CLASSIFICA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316480" y="613584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Prof. M. Alexandrova, DSc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12:58:53Z</dcterms:created>
  <dc:creator>Canev</dc:creator>
  <dc:description/>
  <dc:language>en-US</dc:language>
  <cp:lastModifiedBy>Tzanev-MU</cp:lastModifiedBy>
  <dcterms:modified xsi:type="dcterms:W3CDTF">2015-11-16T07:54:50Z</dcterms:modified>
  <cp:revision>464</cp:revision>
  <dc:subject/>
  <dc:title>Slide 1</dc:title>
</cp:coreProperties>
</file>