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59FB2-CE10-4CF1-885A-8E11D2B4B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2755E-543A-4DFE-B738-599162FB8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176E7-BFDE-4B85-9986-0784938E8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29D19-7156-41C0-9954-44C410F30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8EB86-1E56-4EE2-A810-50EA11C6D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E8641-AEA2-4EE9-A79C-9CE5C2115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EBBCB-1B7B-4DEF-8A86-8CADDACFA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F4984-56D5-44A3-B742-7C4113767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0A725-7C5C-4587-BC35-D465418AF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A8B52-DAAC-4F73-B879-9AA68B57C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BF39C-0440-4321-AC68-6BE0F37E3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BC46F-8AC4-4E4C-A729-DC29380DB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BB8A8-81F4-48E6-82F3-2BF993E4052D}" type="slidenum">
              <a:rPr b="0" lang="bg-BG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wmf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b60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Capture1"/>
          <p:cNvPicPr/>
          <p:nvPr/>
        </p:nvPicPr>
        <p:blipFill>
          <a:blip r:embed="rId1"/>
          <a:stretch/>
        </p:blipFill>
        <p:spPr>
          <a:xfrm>
            <a:off x="0" y="2133720"/>
            <a:ext cx="9144000" cy="39448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16000" y="192240"/>
            <a:ext cx="7834320" cy="1292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3" name="Object 6"/>
          <p:cNvGraphicFramePr/>
          <p:nvPr/>
        </p:nvGraphicFramePr>
        <p:xfrm>
          <a:off x="539640" y="247680"/>
          <a:ext cx="1069920" cy="1093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9640" y="247680"/>
                    <a:ext cx="1069920" cy="109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Picture 8" descr=""/>
          <p:cNvPicPr/>
          <p:nvPr/>
        </p:nvPicPr>
        <p:blipFill>
          <a:blip r:embed="rId5"/>
          <a:stretch/>
        </p:blipFill>
        <p:spPr>
          <a:xfrm>
            <a:off x="2340000" y="961920"/>
            <a:ext cx="5413320" cy="19080"/>
          </a:xfrm>
          <a:prstGeom prst="rect">
            <a:avLst/>
          </a:prstGeom>
          <a:ln w="0">
            <a:noFill/>
          </a:ln>
        </p:spPr>
      </p:pic>
      <p:sp>
        <p:nvSpPr>
          <p:cNvPr id="46" name="Text Box 10"/>
          <p:cNvSpPr/>
          <p:nvPr/>
        </p:nvSpPr>
        <p:spPr>
          <a:xfrm>
            <a:off x="108000" y="1628640"/>
            <a:ext cx="20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Lecture </a:t>
            </a:r>
            <a:r>
              <a:rPr b="1" lang="bg-BG" sz="1800" spc="-1" strike="noStrike">
                <a:solidFill>
                  <a:srgbClr val="000000"/>
                </a:solidFill>
                <a:latin typeface="Arial Black"/>
              </a:rPr>
              <a:t>№ </a:t>
            </a: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1</a:t>
            </a:r>
            <a:r>
              <a:rPr b="1" lang="bg-BG" sz="1800" spc="-1" strike="noStrike">
                <a:solidFill>
                  <a:srgbClr val="000000"/>
                </a:solidFill>
                <a:latin typeface="Arial Black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11" descr=""/>
          <p:cNvPicPr/>
          <p:nvPr/>
        </p:nvPicPr>
        <p:blipFill>
          <a:blip r:embed="rId6"/>
          <a:stretch/>
        </p:blipFill>
        <p:spPr>
          <a:xfrm>
            <a:off x="5424480" y="6319800"/>
            <a:ext cx="3719520" cy="4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08T20:06:21Z</dcterms:created>
  <dc:creator>Tzanev-Home</dc:creator>
  <dc:description/>
  <dc:language>en-US</dc:language>
  <cp:lastModifiedBy>Tzanev-Home</cp:lastModifiedBy>
  <dcterms:modified xsi:type="dcterms:W3CDTF">2015-11-08T20:16:20Z</dcterms:modified>
  <cp:revision>3</cp:revision>
  <dc:subject/>
  <dc:title>Slide 1</dc:title>
</cp:coreProperties>
</file>