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E433-C202-4C1A-A9AE-4426F63CB157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DF01-B046-4B40-A830-619E64A18C8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4DE8-8C06-4C80-975F-691CCB69AEF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78A3-67C5-4994-A57D-CFDDFDB0F25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49E8-8647-4B8B-B7B3-9CB0DA17D5B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8AC0-A7F6-4050-B58C-A712DFDB04D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53BB-17AC-4724-AFCD-0D33CA7E7B8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2D89-2863-4F7B-B50F-141488A0DCF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81B8-5B29-460B-A206-DDBFA9B5A30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610B-1E85-4E4E-920D-F8AC23D3078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3D08-92AE-4927-B0F4-83D2E38CB4A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974D-CEAD-4B36-B882-EC933EB154D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97EF-3748-4EF3-A0DD-DB8F5CE07DC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B362-1AB2-4131-B613-F367E09877F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7C7E-F067-4C89-88C6-949F49DFA8DB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5761-0BA1-4E69-9FF1-32A99FC1BC6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90CA-DC7C-4891-BB88-475AC4C817A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42F3-34F2-44B6-A31E-1C0DD624F1A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B27F-5AAD-4A07-AD2D-D905A746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1A25-F574-4306-8253-C3A8114A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A28E-1018-4E73-A635-1CCDE326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5D6-A2FF-4344-AAC1-E29E806B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0F73-B0EC-4F0F-AF25-A3D7B95F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5271-9462-4AB2-962B-3F754C66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0AAA-1B3F-4D5A-958E-60A429CD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611C-9511-4208-97AB-80FCCA4E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BE92-83B4-4FDD-BC59-DF761A42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7919-875F-4EDF-A662-CF74AB67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4467-FA9E-480F-8EFA-EE62C4F4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85D-D403-47DF-BAA1-B1E9F4DB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7321-E6B2-4E57-8594-6350083D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3F52-13FF-48DB-927E-A6E95F83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A82F-7C7D-48CD-8862-A1387798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515A-6D29-4034-AC69-05408F46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B7AA-2E88-4719-A096-E51DCFF3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096C-9F95-475F-A99A-304C124C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47F-D7F2-4871-8F74-15E37BA6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C6FE-3498-46F4-A386-18A74E20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4D8F-F738-4638-9237-010EBE56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7FCC-3EE5-4CFF-B5FD-DA574BD1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85C-55CB-4D08-96A6-1D26F35B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57C-2E09-4596-B70A-C5AEFA8E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C8D7-0A05-4297-8EB9-6E7A37FE1D85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AF9B-94ED-4132-8ED0-365D3C8D6CE5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Arial"/>
              </a:rPr>
              <a:t>Механична дистокия. </a:t>
            </a:r>
            <a:br>
              <a:rPr sz="4800"/>
            </a:br>
            <a:r>
              <a:rPr b="0" lang="bg-BG" sz="48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Доц. д-р Надежда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Хинкова , д.м.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Факултет “Здравни грижи”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Медицински университет - Плеве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Главата не се ангажира в края на бременността, което не е характерно за първораждащи. По-чести са неправилните главични предлежания, косо и напречно положение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б) Стеснение на средната плоскост на таза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Тази плоскост се ограничава отпред от долният ръб на симфизата, отстрани о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ae ossis ischii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отзад е на границата между четвърти и пети сакрални прешлени. За стеснение на тази плоскост се говори когато напречният диаметър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 interspinal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 е под 10,5 см, а правият диаметър е под 11,5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тесненията в средната плоскост на таза са по-чести от тези на входа. Най-често главата се задържа в напречния диаметъ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в) Стеснение на изхода на таза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лоскостта на изхода на таза се състои от два триъгъл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дният триъгълник е с основа интертуберозния диаметър и с връх 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Задният триъгълник е със същата основа и с връх границата межд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 sacrum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 coccyg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За стеснение на изхода на таза се говори когато интертуберозният диаметър е под 8 см и 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 тес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Главата се изтласква към задният триъгълник, разпъва силно перинеума с обширни разсъсвания на перинеу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V. Функционално тес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ова е таз при който се установява несъответствие между таза и плода, независимо от големината и формата на таз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при нормален таз и едър пло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при нормален таз и дефлексионни предлеж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при нормален по големина плод и гранично намалени размери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при нормален по големина плод и промяна на формата на таз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ака функционално тесният таз се базира на съотношението на три важни променливи величини – таз, плод и маточна активно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гато тези величини са в съотношение, че плодът не може да се роди неувреден през родилните пътища, се говори да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елви-фетална диспропорция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Диагнозата се поставя в хода на раждане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Диагноза на тесните тазо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агнозата започва с анамнезата и оглед на конструкцията на тялото на бременн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т анамнезата може да се ориентираме за тежък рахит в млада възраст, вродена луксация, прекарани травми на кости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иските жени, с ръст под 155 см, в голяма част имат и тесни тазове. Наличие на кифоза, сколиоза, нарушена походка, промени в ромба на Михаелис, промени в наклона на таза обикновено са свързани с известни изменения във формата и размерите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анните за тежко оперативно вагинално раждане или травми на плода изискват внимателно изследване размерите и формата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ъншната пелвиметрия е ориентировъчна и не може да прогнозира изхода на раждане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Чрез трети и четвърти прийом на Леополд се установява високо стояща глава в края на бременността. Този белег има голяма прогностична стойност за наличие на тесен таз при първеск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вагинален преглед може да се измер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onal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от която като извадим 1,5 см получавам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За стеснение на 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се предполага когато под него не могат да се поставят два напречни пръста. Недостигането на промонториума със средният пръст с голяма вероятност говори за липса на стеснение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агиналното изследване може да установи още: проминиране на спините, конкавитета на сакрума, посоката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 coccyg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конвергенцията на страничните стени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стеснение на интертуберозният диаметър се насоч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е, когато ръката свита в юмрук не може да се постави между два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era ossis ischii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ентгеновата пелвиметрия дава иформация за вътрешните размери на таза. Извършва се само ако бременната даде съгласие за това. При плод в седалищно предлежание има безспорно утвърдено мяс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Ултразвуковият метод не е в състояние да даде данни за размерите на костния таз. Този метод дава ценна информация за размерите на плода и в частност за размерите на черепа. При БПД над 100 мм и особено при преносване е оправдана рентгенова пелвиметрия за установяване на съвместимост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Клинична преценка на съвместимост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рийом на Цангемайстер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С тазомер се измерва по обичайният начи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Без да се мести задното рамо на тазомера, предното му рамо се поставя върху най-изпъкналата точка на главата в областта над симфиз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това разстояние е по-малко о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по-вероятно е да има съвместимост между размера на таза и този на глав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рийом на Уатстон – Хенкел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ри гръбно положение на бременната едната ръка на извършващият изследването се поставя над симфизата, а другата върху главата на плода. Възможни са следните поло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ако плоскостта на симфизата стои по-високо от тази на главата, главата би могла да навлезе в малкия та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ако плоскостта на симфизата и на главата са на една равнина, има известна степен на несъвместимо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ако плоскостта на главата е по-високо от тази на симфизата – прийомът на Уатстон – Хенкел е положителен и сочи, че е налице несъответствие между таза и главата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рийом на Мюлер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дин асистент притиска с две ръце главата на плода по посока към входа на таза. Чрез вагинално изследване се преценява доколко натискът върху главата повлиява спускането й в кухината на малкия таз. Най добре е прийомът да се приложи при пълно разширение на маточната ший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Протичане на раждане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 време на раждането при вагинален преглед най-често се установява пукнат околоплоден мехур и шийка, неприлягаща добре към предлежащата глава. Маточната шийка се разширява бавно, раждането е удължено, често с вторична родилна слабост. Главата на плода е конфигурирана, образува с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ut succedaneum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Установяването на асинклетизъм и изразена конфигурация, при неангажирана глава е ясен белег за неблагоприятно вагинално ражд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Секуларни промени в таза на жена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В исторически аспект женският таз увеличава размерите си, респ. процентът на жените с малки размери на таза намаля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Друга особеност на секуларните промени е увеличаване на граничните състояния – между нормални и намалени разме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Третата изява на тенденцията се отнася до формите на таза. В миналото най-чести са били общо стеснените тазове. През последните десетилетия най-честата форма на тесните тазове е напречно-стесненият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4. Друга особеност е т. нар функционално тесен таз – несъответствие между таз и плод, независимо от големината и формата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Анатомично тес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bg-BG" sz="2400" spc="-1" strike="noStrike">
                <a:solidFill>
                  <a:srgbClr val="ffff99"/>
                </a:solidFill>
                <a:latin typeface="Arial"/>
              </a:rPr>
              <a:t>Определение: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таз при който един или повече от вътрешните му размери е с повече от 1 см по-малък от нормалните разме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Класификация на тесните тазо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литературата съществуват няколко класифик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І. В зависимост от дължината на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njugata vera obstetrica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има четири степени на тесен та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 степен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9 до 11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І степен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7,5 до 9 см. Приема се, че при такъв размер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аждането на жив плод е възможно, само ако последният е с много малки размери (недоносен плод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ІІ степен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5,5 до 7,5 см. При такива размери на таза раждането на жив плод не е възможно. Плодораздробяваща операция е свързана с големи травми на мекия родилен кан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V степен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е с размери по-малки от 5,5 см. Преминаването на доносен плод през костния таз е невъзможно, дори и след плодораздробяваща опер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оред съвременните изисквания на акушерската практика ІІІ и ІV степен стеснение на таза е абсолютна индикация за цезарово се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І степен е възможен опит за вагинално раждане при условие, че няма макрозомия. Пр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од 9 см за предпочитане е елективно Цезарово се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ІІ. Доскоро, широко разпространена в нашата литература, е следната класификац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Общо равномерно-стесн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Плосък таз (таз, стеснен в правия разме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) обикновен плосък та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) плосък рахитичен та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) общо-стеснен плосък та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Косо-стесн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4. Напречно-стесн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5. Спондилолистетич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6 Остеомалатич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7. Фуниеобразен таз (мъжки таз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8. Таз, с тумори и екзостоз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ІІІ. Широко употребявана е класификацията на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ldwell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oloy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(1933), която е базирана основно върху конфигурацията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оред тази класификация се различават следните видове та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а) Гинекоиден (женски) таз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Той е най-често срещан – 50%. Формата на входа на таза е овална с малко по-голям напречен от прав диаметър. Страничните стени на таза са успоредни. Спините не проминират към празнината на таза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 широк – 90 градуса. Обемът на таза е нормал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ова е най-благоприятната форма на таз за вагинално раждане. Раждането обикновено протича нормал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б) Андроиден (мъжки) таз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Честотата му е 20%. Формата на входа на таза е сърцевидна. Намалена е задната половина на повърхността на входа на таза, предната е тясна и с триъгълна форма. Страничните стени на таза конвергират, спините са масивни и проминират към кухината на таза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 тесен. Сакрумът е плосък, а долната му част е издадена напред. Скъсени са всички размери на празнината на таза, което намалява и обема 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илно изразеният андроиден таз е много труден за вагинално раждане и се предпочита цезарово с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слабо изразен андроиден таз раждането спира, когато главата е навлязла дълбоко в таза. И двата пътя за родоразрешение – вагинален и абдоминален се явяват травматични за майката и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в) Антропоиден (маймунски) таз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Честотата му е 25%. Входът на таза е надлъжно-овален, като правият диаметър е по-голям от напречния. Тазовите стени имат паралелен ход и не стесняват празнината и изхода на таза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 или нормален или леко стеснен. Обемът на таза е нормал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нормален по размер плод е възможно атравматично вагинално раждане, като главата навлиза в правия диаметър и така достига до изхода на таза. По-чести са задно тилно предлежание и оперативните вагинални ражд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г) Платипелоиден (плосък) таз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Честотата му е 5%. Формата на входа на таза е напречно-овална с увеличен напречен и скъсен прав диаметър на входа на таза. Всички прави диаметри на таза са намалени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 широк. Този таз е най-плитъ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Главата навлиза със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tura sagital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в напречния диаметър и така се движи до разширението на таза. Поради скъсените прави диаметри главата се ражда със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tura sagital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леко отклонена от правия диаметър на изхода на таза. Често главата е в асинклитично положение и раждането завършва с цезарово с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ІV. Напоследък добива широко разпространение класификацията на тесните тазове, базирана на стеснения в различните плоскости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азличават се три основни плоскости на таза – на входа, средна плоскост и на изхода. Средната плоскост отговаря на употребяваната у нас плоскост на стеснението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а) Стеснение на входа на таза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равия диаметър е под 11 см и напречния акушерски диаметър под 12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27:27Z</dcterms:created>
  <dc:creator>Guest</dc:creator>
  <dc:description/>
  <dc:language>en-US</dc:language>
  <cp:lastModifiedBy>LENOVO</cp:lastModifiedBy>
  <dcterms:modified xsi:type="dcterms:W3CDTF">2020-03-20T13:32:35Z</dcterms:modified>
  <cp:revision>40</cp:revision>
  <dc:subject/>
  <dc:title>Механична дистокия.  Тесен таз</dc:title>
</cp:coreProperties>
</file>