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FEA7-B88B-4B24-95D1-008EF5B3C85C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BFE3-633F-47DF-A98E-42D9A640530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FDA1-BA8D-4EF8-B05D-496F145C6CB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0114-D55B-4982-B226-D1CBF75E965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8497-A70B-4694-B78D-C0751A9D9E4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3ACA-9E10-4C80-A11E-84C0ABD614C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2DFE-D816-43F3-A9E3-F6722861D86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2CD6-712B-49C6-BCD7-1F7C3E7EC6E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2D90-48CD-4D83-BE76-317CD977BE9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C8A8-CA77-45D0-954D-6DC35EAF331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AFC2-39EE-4B9B-AFB4-1D1235F825D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9348-7948-4B2A-9644-AEC645F20DC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A8EB-7EF9-441C-AB40-AEA4CA01A02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BF39-73B7-416F-A0F0-FD3CAC60B2B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64FD-C8A9-4A0E-8699-3891263CE3E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DD0F-2D1B-4CE1-BC64-B105D85294F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AEB-F794-4D75-A5B1-CA5A6DF6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0DB-6A8B-435D-9DD3-B7E01565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48E-16A2-4089-AB63-F7C9972E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200-7C6E-4B40-8D9F-DECDE453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A10C-DFFF-430C-B60F-DDDA31E5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53AA-CEDC-480A-8863-84C5C7EE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BDC9-CFBA-4D59-9DC3-BB476CD9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CA10-B667-4257-97E2-4CDA5475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3EC0-BDB2-4A55-9D15-82B4307E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E3CF-6CFF-4927-9905-3B5D0EB7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ED91-723D-470D-8201-B6682CF2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DD7-08A4-400F-80D0-4F30DA89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D4AB-6086-450F-B758-169B09B7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880E-BF4A-43A3-937F-00860F67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D8BE-052E-4F2F-B6F7-C01645E2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2ED8-01BE-4239-923F-C341783C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3284-A19E-472B-B656-DC0649F0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C31F-6B8C-4A03-B263-0EE840E1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754-52E9-42B8-AF6F-3B087229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5950-037B-4B1C-83BB-B0C447339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FAC-BA22-4F24-915E-94371FE0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D189-3626-4D55-AF2B-14F96D7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906-A156-4948-A1A4-2B60FC9D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BFC8-1AE9-427E-937F-8562EC53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FBF9-EAD2-4BA5-9E1F-20C9FF3F6B72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1B08-8D4E-4316-9D12-850886CF1BC2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Доц. д-р Надежда Хинкова, д.м.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Факултет “Здравни грижи”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Медицински университет - Плев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Удължена брадикардия в края на втори период на раждането. Честотата на ДСТ спада до 90 – 40 уд/мин. Тази брадикардия често принуждава акушера да завърши раждането с форцеп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Удължена брадикардия у преносени деца, съпътствана с намалена вариабилност е опасна брадикард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. Удължена брадикардия, с късни и променливи децелерации, също е опасна брадикард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Намалена или липсваща вариабилно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някои случаи ДСТ имат нормална честота, но на запис липсва вариабилност – “плоска крива”. Тези записи са “зловещи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е винаги намалената вариабилност е израз на ФДС. Може да се дължи на медикация на майката или сънно състояние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Микрокръвно изследване и рН–метр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етодът е въведен през 1962 г. о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ing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Тази методика се използва като допълнение към електронното мониторир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ias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сътрудници предлагат следното поведение при изследване на р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Н над 7,25 </a:t>
            </a:r>
            <a:r>
              <a:rPr b="0" lang="bg-BG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аблю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Н  7,25 – 7,20 </a:t>
            </a:r>
            <a:r>
              <a:rPr b="0" lang="bg-BG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овторение след 30 мину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Н под 7,20 </a:t>
            </a:r>
            <a:r>
              <a:rPr b="0" lang="bg-BG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езабавно цезарово сеч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Н от феталния скалп остава най-точният метод за диагноза на ФД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Мекониум в О.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асификация на мекониума в О.Т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ранен мекониум – отделя се преди и през активната фаза. Бива: - рядъ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гъ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късен мекониум – отделя се през ІІ период на раждането, липсва преди т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ДС корелира с ранния гъст мекониум и късния мекониу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отделянето на мекониум в О.Т. има две хипотез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оред едната, феталната хипоксия предизвиква исхемия на червата, стимулира перисталтиката и релаксира аналния сфинкт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оред втората хипотеза, отделянето на мекониум в О.Т. е израз на зрелост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ма три нива на диагностициране на острия ФДС: съмнителен, вероятен и сигур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. Съмнителен. Установява се при фетална тахикардия. Може да има слабо изразени променливи децел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І. Вероятен – фетална тахикардия, липса на вариабилност, засилващи се по тежест променливи децел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ІІ. Сигур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тахи- или брадикардия, липса на вариабилност, късни децелер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тежки променливи децелерации плюс късни децелер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Поведение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ктува се от причините, тежестта и редица други фактор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Поставяне на раждащата в ляво странично положение.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опълнително може да се включи венозна инфузия на кристалоидни разтвори, плазма. Така се преодолява хипотензията на майката и се повишава кръвотокът в интервилозното простран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 Токолиза с бета-миметици. Показана е при хиперактивна маточна дейност, която намалява утеро-плацентарния кръво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Кислородотерапия – 6-7 л/мин, с маска или назален катетър. Повишава транспорта на кислород към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Алкални лекарства – натриев бикарбонат. Има значение само при ацидозно състояние на майк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5. Хипертонична глюкоза – когато майката се намира в хипогликем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медикаментозното лечение не дава желания резултат, акушерското поведение изисква бързо завършване на раждането, съобразно акушерската ситуация – Цезарово сечение, форцепс, вакуум-екстракция, с цел спасяване живота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еталният дистрес-синдром може да се определи като състояние, което заплашва здравето и живота на плода в резултат на настъпили промени в газообмена и метаболизма (хипоксия и ацидоза), което засяга функциите на жизнено- важни орга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Терминолог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Най-старото название на синдрома е асфиксия, което буквално означава липса на пул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Фетална хипокс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 Депресивно състояние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В новата англоезична литература най-често се среща фетале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es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синдром (англ. – нещастие, бедствие, страда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ДС може да има различни причини, различна продължителност, тежест, може да бъде остър или хронич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Патофизиолог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вечето фактори, причиняващи ФДС, разстройват феталната газова обмяна и регулацията на р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Обмяна на СО2: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Ако се блокира изнасянето на СО2, нараства парциалното му налягане, повишава се концентрацията на водородните катиони и рН спада. Настъпва респираторна ацидоза. Това може да стане при компресия на пъпната връв или астматичен пристъп у майк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Обмяна на О2: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Ако намалее подвозът на кислород, не може да се извърши аеробна гликолиза. Включва се анаеробен метаболизъм, с изчерпване на АТФ и натрупване на лактати. Възниква метаболитна ацидо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двозът на кислород може да намалее рязко (п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uptio placenta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 или хронично (при прееклампс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й-често ацидозата е смесена – метаболитна и респирато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Различават се два вида ФД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Хроничен – развива се бавно през последните месеци на бременността, при диабет, прееклампсия, преносена бременност и други състояния, които създават плацентарна инсуфициенция и намалена плацентарна перфуз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инично хроничната асфиксия резултира в интраутеринна ретардация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Остър – развива се бързо и най-често през време на раждането. Маточните контракции намаляват кислорода за плода и подлагат на изпитание резервните му механиз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Етиоло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ia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сътрудници предлагат следната схема на ФД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Хронично увреждане на фето-материнската обмя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Причини от страна на майк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прееклампс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диаб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. хронична хиперто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. сърдечни болести ІІІ и ІV кла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. хемоглобинопа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Причини от страна на пл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хемолитична боле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интраутериннен трансфузионнен синдром при близнац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недоносен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Плацентарни прич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анатомични промени в плацентата (циркумвалатна плацента, ципесто прикрепван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преносен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първична плацентарна недостатъчн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Липса на данни за хронично увреждане на фето-материнската обмя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Ятрогенни прич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окситоцинова хиперстимул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регионална анестез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хипотензивни лек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Остри случа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uptio placenta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пъпна връв – притискане, пролапс, истински въз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Диагно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гнозата се поставя въз основа 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Наличие на един или повече от следните симптоми при електронно мониториране на пл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персистиращи късни децелер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персистиращи тежки променливи децелер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продължителна брадикард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. намалена или липсваща вариабилн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Наличие на патологично рН от феталния скалп (диагнозата става сигур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Наличие на гъст мекониум в О.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Електронно мониториране на плода. Кардиотокограф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Късни децелерации. Наличието на повтарящи се късни децелерации традиционно се приема за признак на ФД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о те могат да се дължат на окситоцинова хиперстимулация, на епидурална анестез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заключение: късните децелерации са важен признак за ФДС, но наличието им не изисква задължително спешна хирургична интервенция. Те трябва да се интерпретират в рамките на цялостната ситуация и данните от р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Тежки променливи децелерации. Явяват се при компресия на пъпната връв. Ако те се установят, трябва де се изключи пролапс или предлежание на пъпната връв чрез вагинално изследв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такива липсват, да се обърне жената на противоположната страна с надеждата да се отстрани натискът върху пъпната връв, да се назначи токолитична терапия и да се изследва р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неизчезващи след токолитично лечение тежки децелерации и ниско рН, да се завърши раждането с форцепс (ако има условия за налагане) или Цезарово с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Фетална брадикардия. Не всички видове фетална брадикардия са еднакво показателни по отношение състоянието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Основна брадикардия – под 120 уд/мин. Тя е налице от началото на раждането, с адекватна вариабилност, не винаги изразява асфикс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22:50:57Z</dcterms:created>
  <dc:creator>pc</dc:creator>
  <dc:description/>
  <dc:language>en-US</dc:language>
  <cp:lastModifiedBy>LENOVO</cp:lastModifiedBy>
  <dcterms:modified xsi:type="dcterms:W3CDTF">2020-03-20T13:41:29Z</dcterms:modified>
  <cp:revision>27</cp:revision>
  <dc:subject/>
  <dc:title>Фетален дистрес-синдром</dc:title>
</cp:coreProperties>
</file>